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wmf" ContentType="image/x-wmf"/>
  <Override PartName="/ppt/media/image10.wmf" ContentType="image/x-wmf"/>
  <Override PartName="/ppt/media/image12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857D-96A6-4258-85DC-D7A5AFEC5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2CEB-F9D9-41F3-8D0D-BDC940CD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E238-A94C-485D-9698-FEF513711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575F-7B53-467D-8C7D-662463A08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8000-F874-40F9-89ED-8E528A0B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357C-0EBC-4523-ABAC-CDE13706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1BB7-2822-43EA-BD1D-8115EB2D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53D0-CFA7-485F-B109-C615A751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BDF4-A1B7-4ACB-B299-1AA1291D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ABED-7293-470B-8DEF-5E5E30B8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0CE7-4DC7-4B3D-8C30-329F7A99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BBF5-F41C-4A39-89DE-27ED70BB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EEAD-C604-422D-94B3-2200B44848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4" descr=""/>
          <p:cNvPicPr/>
          <p:nvPr/>
        </p:nvPicPr>
        <p:blipFill>
          <a:blip r:embed="rId2"/>
          <a:stretch/>
        </p:blipFill>
        <p:spPr>
          <a:xfrm>
            <a:off x="2316240" y="1109520"/>
            <a:ext cx="4505400" cy="1822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1" descr="TN_%2022_clipart_26"/>
          <p:cNvPicPr/>
          <p:nvPr/>
        </p:nvPicPr>
        <p:blipFill>
          <a:blip r:embed="rId3">
            <a:grayscl/>
          </a:blip>
          <a:stretch/>
        </p:blipFill>
        <p:spPr>
          <a:xfrm>
            <a:off x="2643120" y="2571840"/>
            <a:ext cx="42861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dict the meaning of the word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ndm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ndf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s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1" descr="TN_%2022_clipart_26"/>
          <p:cNvPicPr/>
          <p:nvPr/>
        </p:nvPicPr>
        <p:blipFill>
          <a:blip r:embed="rId1">
            <a:grayscl/>
          </a:blip>
          <a:stretch/>
        </p:blipFill>
        <p:spPr>
          <a:xfrm>
            <a:off x="4859280" y="2205000"/>
            <a:ext cx="3313080" cy="3006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5" descr=""/>
          <p:cNvPicPr/>
          <p:nvPr/>
        </p:nvPicPr>
        <p:blipFill>
          <a:blip r:embed="rId2"/>
          <a:stretch/>
        </p:blipFill>
        <p:spPr>
          <a:xfrm>
            <a:off x="2484360" y="2205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1" descr=""/>
          <p:cNvPicPr/>
          <p:nvPr/>
        </p:nvPicPr>
        <p:blipFill>
          <a:blip r:embed="rId3"/>
          <a:stretch/>
        </p:blipFill>
        <p:spPr>
          <a:xfrm>
            <a:off x="2411280" y="2637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2" descr=""/>
          <p:cNvPicPr/>
          <p:nvPr/>
        </p:nvPicPr>
        <p:blipFill>
          <a:blip r:embed="rId4"/>
          <a:stretch/>
        </p:blipFill>
        <p:spPr>
          <a:xfrm>
            <a:off x="2556000" y="314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3" descr=""/>
          <p:cNvPicPr/>
          <p:nvPr/>
        </p:nvPicPr>
        <p:blipFill>
          <a:blip r:embed="rId5"/>
          <a:stretch/>
        </p:blipFill>
        <p:spPr>
          <a:xfrm>
            <a:off x="3492360" y="3573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4" descr=""/>
          <p:cNvPicPr/>
          <p:nvPr/>
        </p:nvPicPr>
        <p:blipFill>
          <a:blip r:embed="rId6"/>
          <a:stretch/>
        </p:blipFill>
        <p:spPr>
          <a:xfrm>
            <a:off x="3348000" y="4076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5" descr=""/>
          <p:cNvPicPr/>
          <p:nvPr/>
        </p:nvPicPr>
        <p:blipFill>
          <a:blip r:embed="rId7"/>
          <a:stretch/>
        </p:blipFill>
        <p:spPr>
          <a:xfrm>
            <a:off x="2124000" y="4508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8" descr=""/>
          <p:cNvPicPr/>
          <p:nvPr/>
        </p:nvPicPr>
        <p:blipFill>
          <a:blip r:embed="rId8"/>
          <a:stretch/>
        </p:blipFill>
        <p:spPr>
          <a:xfrm>
            <a:off x="2195640" y="501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0" descr=""/>
          <p:cNvPicPr/>
          <p:nvPr/>
        </p:nvPicPr>
        <p:blipFill>
          <a:blip r:embed="rId9"/>
          <a:stretch/>
        </p:blipFill>
        <p:spPr>
          <a:xfrm>
            <a:off x="2556000" y="5445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2" descr=""/>
          <p:cNvPicPr/>
          <p:nvPr/>
        </p:nvPicPr>
        <p:blipFill>
          <a:blip r:embed="rId10"/>
          <a:stretch/>
        </p:blipFill>
        <p:spPr>
          <a:xfrm>
            <a:off x="2556000" y="162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63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2335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2774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2844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2215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2834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235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3093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946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tch the words &amp; the pictur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6"/>
          <p:cNvGraphicFramePr/>
          <p:nvPr/>
        </p:nvGraphicFramePr>
        <p:xfrm>
          <a:off x="826920" y="1557360"/>
          <a:ext cx="1209960" cy="15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7360"/>
                    <a:ext cx="1209960" cy="1535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8" name="Object 9"/>
          <p:cNvGraphicFramePr/>
          <p:nvPr/>
        </p:nvGraphicFramePr>
        <p:xfrm>
          <a:off x="6454800" y="1413000"/>
          <a:ext cx="1693800" cy="178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54800" y="1413000"/>
                    <a:ext cx="1693800" cy="1787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0" name="Object 12"/>
          <p:cNvGraphicFramePr/>
          <p:nvPr/>
        </p:nvGraphicFramePr>
        <p:xfrm>
          <a:off x="3564000" y="4149720"/>
          <a:ext cx="1209600" cy="156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64000" y="4149720"/>
                    <a:ext cx="1209600" cy="1569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2" name="Object 15"/>
          <p:cNvGraphicFramePr/>
          <p:nvPr/>
        </p:nvGraphicFramePr>
        <p:xfrm>
          <a:off x="6443640" y="3860640"/>
          <a:ext cx="1589040" cy="1940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43640" y="3860640"/>
                    <a:ext cx="1589040" cy="19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18"/>
          <p:cNvGraphicFramePr/>
          <p:nvPr/>
        </p:nvGraphicFramePr>
        <p:xfrm>
          <a:off x="3564000" y="1413000"/>
          <a:ext cx="1592280" cy="1933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5" name="Object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64000" y="1413000"/>
                    <a:ext cx="159228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19"/>
          <p:cNvGraphicFramePr/>
          <p:nvPr/>
        </p:nvGraphicFramePr>
        <p:xfrm>
          <a:off x="324000" y="4149720"/>
          <a:ext cx="1903320" cy="1608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7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4000" y="4149720"/>
                    <a:ext cx="1903320" cy="16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Text Box 20"/>
          <p:cNvSpPr/>
          <p:nvPr/>
        </p:nvSpPr>
        <p:spPr>
          <a:xfrm>
            <a:off x="3635280" y="3573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A f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1"/>
          <p:cNvSpPr/>
          <p:nvPr/>
        </p:nvSpPr>
        <p:spPr>
          <a:xfrm>
            <a:off x="611280" y="3213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 m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2"/>
          <p:cNvSpPr/>
          <p:nvPr/>
        </p:nvSpPr>
        <p:spPr>
          <a:xfrm>
            <a:off x="6732720" y="32130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r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3"/>
          <p:cNvSpPr/>
          <p:nvPr/>
        </p:nvSpPr>
        <p:spPr>
          <a:xfrm>
            <a:off x="3419640" y="59500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4"/>
          <p:cNvSpPr/>
          <p:nvPr/>
        </p:nvSpPr>
        <p:spPr>
          <a:xfrm>
            <a:off x="250920" y="3490920"/>
            <a:ext cx="187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5"/>
          <p:cNvSpPr/>
          <p:nvPr/>
        </p:nvSpPr>
        <p:spPr>
          <a:xfrm>
            <a:off x="395280" y="6021360"/>
            <a:ext cx="18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grandm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6"/>
          <p:cNvSpPr/>
          <p:nvPr/>
        </p:nvSpPr>
        <p:spPr>
          <a:xfrm>
            <a:off x="6443640" y="602136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 grandfa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213840" y="2499840"/>
            <a:ext cx="59612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I have got a mo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826920" y="1125360"/>
            <a:ext cx="770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ok at the picture &amp; correct the sent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3786120" y="2500200"/>
            <a:ext cx="27352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s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Object 10"/>
          <p:cNvGraphicFramePr/>
          <p:nvPr/>
        </p:nvGraphicFramePr>
        <p:xfrm>
          <a:off x="6516720" y="2349360"/>
          <a:ext cx="1663560" cy="21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6720" y="2349360"/>
                    <a:ext cx="1663560" cy="2159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-360" y="2499840"/>
            <a:ext cx="5327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have got a broth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clipart_people_07"/>
          <p:cNvPicPr/>
          <p:nvPr/>
        </p:nvPicPr>
        <p:blipFill>
          <a:blip r:embed="rId1"/>
          <a:stretch/>
        </p:blipFill>
        <p:spPr>
          <a:xfrm>
            <a:off x="6300720" y="2060640"/>
            <a:ext cx="1541520" cy="28065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the picture &amp; correct the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-2052720" y="3429000"/>
            <a:ext cx="172872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986 0.00139 L 0.57483 -0.11399 E">
                                      <p:cBhvr>
                                        <p:cTn id="115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0" y="2999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e has got a sist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clipart_people_17"/>
          <p:cNvPicPr/>
          <p:nvPr/>
        </p:nvPicPr>
        <p:blipFill>
          <a:blip r:embed="rId1"/>
          <a:stretch/>
        </p:blipFill>
        <p:spPr>
          <a:xfrm>
            <a:off x="5726160" y="2997360"/>
            <a:ext cx="2601720" cy="27367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8"/>
          <p:cNvSpPr/>
          <p:nvPr/>
        </p:nvSpPr>
        <p:spPr>
          <a:xfrm>
            <a:off x="611280" y="1125360"/>
            <a:ext cx="770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Look at the picture &amp; correct the sent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-2341440" y="458136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-2629080" y="3068640"/>
            <a:ext cx="1872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99 0.00139 L 0.73229 0.00278 E">
                                      <p:cBhvr>
                                        <p:cTn id="121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39640" y="2708280"/>
            <a:ext cx="46087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have got a fath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611280" y="1125360"/>
            <a:ext cx="770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Look at the picture &amp; correct the sent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611280" y="2708280"/>
            <a:ext cx="43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3132000" y="3789360"/>
            <a:ext cx="2880000" cy="70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5"/>
          <p:cNvSpPr/>
          <p:nvPr/>
        </p:nvSpPr>
        <p:spPr>
          <a:xfrm rot="21422400">
            <a:off x="-2413080" y="2637000"/>
            <a:ext cx="18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1"/>
          <p:cNvSpPr/>
          <p:nvPr/>
        </p:nvSpPr>
        <p:spPr>
          <a:xfrm>
            <a:off x="-2341440" y="328464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30"/>
          <p:cNvGraphicFramePr/>
          <p:nvPr/>
        </p:nvGraphicFramePr>
        <p:xfrm>
          <a:off x="5867280" y="3429000"/>
          <a:ext cx="2592360" cy="21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3429000"/>
                    <a:ext cx="2592360" cy="21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Text Box 31"/>
          <p:cNvSpPr/>
          <p:nvPr/>
        </p:nvSpPr>
        <p:spPr>
          <a:xfrm>
            <a:off x="3500280" y="2714760"/>
            <a:ext cx="33847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ndmo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24000" y="2420640"/>
            <a:ext cx="51768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have got  a do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clipart_people_08"/>
          <p:cNvPicPr/>
          <p:nvPr/>
        </p:nvPicPr>
        <p:blipFill>
          <a:blip r:embed="rId1"/>
          <a:stretch/>
        </p:blipFill>
        <p:spPr>
          <a:xfrm>
            <a:off x="5219640" y="3149640"/>
            <a:ext cx="3438720" cy="33940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9"/>
          <p:cNvSpPr/>
          <p:nvPr/>
        </p:nvSpPr>
        <p:spPr>
          <a:xfrm>
            <a:off x="755640" y="1125360"/>
            <a:ext cx="770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Look at the picture &amp; correct the sent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611280" y="1413000"/>
            <a:ext cx="79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2556000" y="450864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-2341440" y="4149720"/>
            <a:ext cx="489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-2268360" y="4581360"/>
            <a:ext cx="45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3857760" y="2428920"/>
            <a:ext cx="3456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dog &amp; a c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7T06:05:46Z</dcterms:created>
  <dc:creator>slushatel</dc:creator>
  <dc:description/>
  <dc:language>en-US</dc:language>
  <cp:lastModifiedBy>123</cp:lastModifiedBy>
  <dcterms:modified xsi:type="dcterms:W3CDTF">2012-11-17T06:44:57Z</dcterms:modified>
  <cp:revision>11</cp:revision>
  <dc:subject/>
  <dc:title>My Family</dc:title>
</cp:coreProperties>
</file>